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4E3F-E506-494C-A4F3-FD5E1D4D8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not flas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not pre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rel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n effective mechanism for moving a lot of information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cus of our group is providing the database… not the interf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 Billion rows of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years worth of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#2 under AQ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“owners” maintain thei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s can be performed any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undergoes a screening process before it is allowed into the system (data integrity &amp; statistical anomal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Registration is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B040-B553-4596-97D6-17260ACD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EA2E-402B-4F20-B2FE-8C757C48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FBEB-D782-44E4-980F-D04C386A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655F-D858-4A72-BC7A-FEFD5E95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B449-A854-4957-AD66-E8D487A0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DEED-1982-44AC-AF1D-2C39053F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BCB3-45FD-4502-BF5A-BD4C402A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992C-8269-4E28-B148-2DB7D13B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1B07-C348-4CCC-BEAE-B0E83A1A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3185-EA3E-481C-9F7B-A388BD40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562E-BCB5-4472-927C-93A365D3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5A2C-3FA9-430D-9273-0E4DF600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DC29-AF93-49FC-BE21-6B13A4A8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939C-6248-44C9-929B-DD47C61A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ECFE-2F35-4FC8-9132-4B198D43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5DFE-A00C-43B6-824C-39E89B7F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8D72-E2C4-44FC-89A2-341625CC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2198-FF05-4F49-8954-67116FF8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B736-DDAF-45CB-BDD7-41C5AD79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BE3B-8490-4847-B7EC-8B1C52EB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839F-8191-4A14-8548-390662B0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0821-2BF2-45BD-ACAD-E8D313E0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FA32-2906-4DC8-8949-8ACE4864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C45A-63AF-493D-8E20-5241B312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0B96-A9BB-4FA7-A883-1DACD0DB7CB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09BD-29A1-429A-9365-5841203C496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QS Overview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nathan Mill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AQPS – National Air Data Gro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Image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677520" y="1905120"/>
            <a:ext cx="408924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79 -0.02454 C 0.0698 -0.03518 0.01823 0.08079 0.01337 0.08079 C -0.09826 0.08843 -0.39479 0.02477 -0.53194 0.02361 C -0.60954 0.01968 -0.72048 0.0706 -0.75746 0.07477 C -0.75746 0.05347 -0.78489 0.04838 -0.78888 0.04838 C -0.79288 0.04838 -0.81215 0.05139 -0.81215 0.07153 C -0.81215 0.06088 -0.81371 0.05602 -0.81562 0.05602 C -0.81666 0.05602 -0.82256 0.06412 -0.82256 0.07477 C -0.82256 0.06945 -0.83454 0.0625 -0.83559 0.0625 C -0.83559 0.06111 -0.83767 0.06783 -0.83767 0.07315 C -0.83767 0.07037 -0.83767 0.06783 -0.83871 0.06783 C -0.83871 0.06921 -0.83975 0.0706 -0.83975 0.07315 C -0.83975 0.07176 -0.83975 0.07037 -0.83975 0.06921 C -0.8401 0.06852 -0.84131 0.06875 -0.84184 0.06921 C -0.84288 0.06921 -0.84288 0.0706 -0.84288 0.07199 E">
                                      <p:cBhvr>
                                        <p:cTn id="6" dur="5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s of Data Avail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mbient Air Quality D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d Avera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mmarized D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cision &amp; B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te and Monitor Metad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Q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QS DataMa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AQ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igned for S/L/T to Enter Da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formation Updated Continuous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ailed Data 1993+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st Register to U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5 Reports Availab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erage 50,000 Reports / Ye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Hoc Queries Available Through Oracle Discoverer (~15,000 Queries / Yea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QS DataMa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igned for Researchers / Academia Quer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ed from AQS Nightly (5x/week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ailed Data 1980+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ed an Exchange Network Node Accou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 Web Services Availab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007:  5M Records Queri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urce Datastore for Other Applications (AirCompare &amp; RSIG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1981440" cy="4038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33520" y="457200"/>
            <a:ext cx="4647960" cy="1676520"/>
          </a:xfrm>
          <a:prstGeom prst="wedgeRoundRectCallout">
            <a:avLst>
              <a:gd name="adj1" fmla="val 50101"/>
              <a:gd name="adj2" fmla="val 73009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don’t know much about data management, but I know what I hat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1600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I don’t hate th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5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5:59:05Z</dcterms:created>
  <dc:creator>jmille09</dc:creator>
  <dc:description/>
  <dc:language>en-US</dc:language>
  <cp:lastModifiedBy>jmille09</cp:lastModifiedBy>
  <dcterms:modified xsi:type="dcterms:W3CDTF">2008-02-12T12:39:24Z</dcterms:modified>
  <cp:revision>6</cp:revision>
  <dc:subject/>
  <dc:title>AQS Overview</dc:title>
</cp:coreProperties>
</file>